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3FCB-72BF-4497-BF5F-8771CD0A0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88F5-4C5B-4121-8F2C-BCD88E82C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F0F-15D4-443B-BADE-21905FC3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B48-AF43-404E-B3BC-29000006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510E-90F5-46A6-8D28-C4709D6D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F11-548D-47BE-9A89-43F87EBE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D4F-B0B9-4416-A019-6855C591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076-134D-4137-BAC8-550F4394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2EF-9316-408A-8571-142A8B01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957-7A4E-423E-B2DD-A8A109E5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FE8-2A56-4DF0-92AC-54098046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7B5-C17D-4B3D-AA55-616D7943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0B5-AD6F-4BF3-9056-03DDE4D7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BA9-740F-4A11-A6CE-104BBFF9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46F9-D56E-4B50-B04C-465B86EBE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rel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e llamo Mirela. Yo tengo catorce años. Yo soy dulce y amigable. Yo vivo en Queens. Yo tengo dos herman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ómo estas?                                                                 Natal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.                                                                                Tasha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amiga!  ¿Cómo estas?                                                                           Natalie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uy bien.                                                                             Ta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y tú?                                                                                                           Natal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hace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4:44:00Z</dcterms:created>
  <dc:creator>FriscoISD</dc:creator>
  <dc:description/>
  <dc:language>en-US</dc:language>
  <cp:lastModifiedBy>NYCDOE</cp:lastModifiedBy>
  <dcterms:modified xsi:type="dcterms:W3CDTF">2012-12-05T14:56:18Z</dcterms:modified>
  <cp:revision>105</cp:revision>
  <dc:subject/>
  <dc:title>Profile</dc:title>
</cp:coreProperties>
</file>